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shiphorn.wav" ContentType="audio/x-wav"/>
  <Override PartName="/ppt/media/oldcarhorn.wav" ContentType="audio/x-wav"/>
  <Override PartName="/ppt/media/lzipup01.wav" ContentType="audio/x-wav"/>
  <Override PartName="/ppt/media/bserie06.wav" ContentType="audio/x-wav"/>
  <Override PartName="/ppt/media/jetflyby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89A-BDF2-46B3-88FB-014139C3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352-B32F-4A1E-A219-3BEAD58F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A0B-FBCB-4224-84CA-CBD905F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CF3-FC20-4C42-9E45-5FEA9DE8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79E-211F-4A57-8B54-A35D55DC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42F-97A7-489E-8168-D41FD721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2F3-4725-4C53-9898-EF14DBD0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5011-562D-428F-831E-F6B100B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EF1-05D7-43AC-9A62-8C7B5643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0E4-40CC-48DA-AF1A-B3B3B63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944-A28B-460F-BAA0-1095870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3D1-7837-4195-9BB6-F532FBF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0DF9-4FF6-4D92-A88A-38A31615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shiphorn.wav"/><Relationship Id="rId3" Type="http://schemas.openxmlformats.org/officeDocument/2006/relationships/audio" Target="../media/oldcarhorn.wav"/><Relationship Id="rId4" Type="http://schemas.openxmlformats.org/officeDocument/2006/relationships/audio" Target="../media/bserie06.wav"/><Relationship Id="rId5" Type="http://schemas.openxmlformats.org/officeDocument/2006/relationships/audio" Target="../media/oldcarhorn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hiphorn.wav"/><Relationship Id="rId2" Type="http://schemas.openxmlformats.org/officeDocument/2006/relationships/audio" Target="../media/oldcarhorn.wav"/><Relationship Id="rId3" Type="http://schemas.openxmlformats.org/officeDocument/2006/relationships/audio" Target="../media/bserie06.wav"/><Relationship Id="rId4" Type="http://schemas.openxmlformats.org/officeDocument/2006/relationships/audio" Target="../media/oldcarhorn.wav"/><Relationship Id="rId5" Type="http://schemas.openxmlformats.org/officeDocument/2006/relationships/audio" Target="../media/bserie06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serie06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506680" y="2655720"/>
                <a:ext cx="395928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Commuta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590920" y="4129200"/>
                <a:ext cx="37893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008000" y="2571840"/>
                <a:ext cx="69566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7960" y="4219560"/>
                <a:ext cx="58802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roperties of Addition and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98880" y="2655720"/>
                <a:ext cx="2771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833400" y="1351080"/>
            <a:ext cx="729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entury"/>
              </a:rPr>
              <a:t>Identity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0257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9884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"/>
              </a:rPr>
              <a:t>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92480" y="4303800"/>
                <a:ext cx="2601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old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property shown by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160" y="1395360"/>
                <a:ext cx="7918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2395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Assoc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19240" y="3344760"/>
                <a:ext cx="4411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420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Id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52360" y="5024520"/>
                <a:ext cx="46944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5896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Comm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property shown by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7440" y="1411200"/>
                <a:ext cx="74660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0" y="2395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Assoc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16000" y="3344760"/>
                <a:ext cx="4184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42022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Id. Prop. of M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77920" y="5052960"/>
                <a:ext cx="55418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5896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entury"/>
              </a:rPr>
              <a:t>Comm. Prop. of Ad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4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 each using the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54040" y="1541520"/>
                <a:ext cx="5543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81040" y="2782800"/>
                <a:ext cx="7805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22720" y="1589040"/>
                <a:ext cx="5666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537160" y="2857680"/>
                <a:ext cx="623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18960" y="4181400"/>
                <a:ext cx="8825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___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1520" y="4238640"/>
                <a:ext cx="5144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120" y="5524560"/>
                <a:ext cx="5826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100400" y="5586480"/>
                <a:ext cx="567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5382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5, 2 – 6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47, 2 – 7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9-02T17:15:31Z</dcterms:modified>
  <cp:revision>64</cp:revision>
  <dc:subject/>
  <dc:title>Slide 1</dc:title>
</cp:coreProperties>
</file>